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3875-E908-4D60-A106-75A012796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CF5F-94A7-45AF-B0EC-06850A91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1615-F3CF-4F25-BD71-587A96A9D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A922-6EC4-48EB-9120-328503923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6031-877D-4BD9-8084-CE791961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684D-E193-449D-9F79-F67D4D3C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C2FF-A248-462A-A279-D3A2B49F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EBED-860D-4CDF-8FBF-DBE4DFD6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E548-FEA5-45E6-9C53-8DF7A621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B97E-5D70-494D-9F00-E9146976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7C0E-6B97-427C-B271-A476FE58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1441-CE08-4DFA-866B-E2B2A55B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E281-A850-4470-91F1-FC07ECAAA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8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akura093.ya.ru/replies.xml?item_no=1482" TargetMode="External"/><Relationship Id="rId3" Type="http://schemas.openxmlformats.org/officeDocument/2006/relationships/hyperlink" Target="http://kandaliza2008.ucoz.ru/publ/derevja_kliparty/10-1-0-1010" TargetMode="External"/><Relationship Id="rId4" Type="http://schemas.openxmlformats.org/officeDocument/2006/relationships/hyperlink" Target="http://lori.ru/2998210" TargetMode="External"/><Relationship Id="rId5" Type="http://schemas.openxmlformats.org/officeDocument/2006/relationships/hyperlink" Target="http://www.forum30.ru/viewtopic.php?f=28&amp;t=535&amp;start=330" TargetMode="External"/><Relationship Id="rId6" Type="http://schemas.openxmlformats.org/officeDocument/2006/relationships/hyperlink" Target="http://lori.ru/1629053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2" descr=""/>
          <p:cNvPicPr/>
          <p:nvPr/>
        </p:nvPicPr>
        <p:blipFill>
          <a:blip r:embed="rId2"/>
          <a:stretch/>
        </p:blipFill>
        <p:spPr>
          <a:xfrm>
            <a:off x="3822840" y="2103480"/>
            <a:ext cx="4217760" cy="238284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3" descr=""/>
          <p:cNvPicPr/>
          <p:nvPr/>
        </p:nvPicPr>
        <p:blipFill>
          <a:blip r:embed="rId3"/>
          <a:stretch/>
        </p:blipFill>
        <p:spPr>
          <a:xfrm>
            <a:off x="4194000" y="5078520"/>
            <a:ext cx="3426120" cy="1504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Картинка 1 из 24317"/>
          <p:cNvPicPr/>
          <p:nvPr/>
        </p:nvPicPr>
        <p:blipFill>
          <a:blip r:embed="rId4"/>
          <a:stretch/>
        </p:blipFill>
        <p:spPr>
          <a:xfrm>
            <a:off x="353880" y="3279600"/>
            <a:ext cx="1438560" cy="1347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Картинка 1 из 24317"/>
          <p:cNvPicPr/>
          <p:nvPr/>
        </p:nvPicPr>
        <p:blipFill>
          <a:blip r:embed="rId5"/>
          <a:stretch/>
        </p:blipFill>
        <p:spPr>
          <a:xfrm>
            <a:off x="1974960" y="2341440"/>
            <a:ext cx="142056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Картинка 1 из 24317"/>
          <p:cNvPicPr/>
          <p:nvPr/>
        </p:nvPicPr>
        <p:blipFill>
          <a:blip r:embed="rId6"/>
          <a:stretch/>
        </p:blipFill>
        <p:spPr>
          <a:xfrm>
            <a:off x="1994040" y="4206960"/>
            <a:ext cx="14382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Documents and Settings\Пользователь\Рабочий стол\дыхание\9.jpg"/>
          <p:cNvPicPr/>
          <p:nvPr/>
        </p:nvPicPr>
        <p:blipFill>
          <a:blip r:embed="rId2"/>
          <a:stretch/>
        </p:blipFill>
        <p:spPr>
          <a:xfrm>
            <a:off x="5796000" y="2133720"/>
            <a:ext cx="2441520" cy="2917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Documents and Settings\Пользователь\Рабочий стол\дыхание\153464_129258391280989671978_Original.jpg"/>
          <p:cNvPicPr/>
          <p:nvPr/>
        </p:nvPicPr>
        <p:blipFill>
          <a:blip r:embed="rId3"/>
          <a:srcRect l="7540" t="6702" r="9525" b="9524"/>
          <a:stretch/>
        </p:blipFill>
        <p:spPr>
          <a:xfrm>
            <a:off x="3348000" y="4581360"/>
            <a:ext cx="2376360" cy="1800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:\Documents and Settings\Пользователь\Рабочий стол\дыхание\6841111-beetle-water-tiger-is-photographed-on-the-white-background.jpg"/>
          <p:cNvPicPr/>
          <p:nvPr/>
        </p:nvPicPr>
        <p:blipFill>
          <a:blip r:embed="rId4"/>
          <a:stretch/>
        </p:blipFill>
        <p:spPr>
          <a:xfrm>
            <a:off x="2340000" y="2565360"/>
            <a:ext cx="1511280" cy="1368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Пользователь\Рабочий стол\дыхание\153464_129258391280989671978_Original.jpg"/>
          <p:cNvPicPr/>
          <p:nvPr/>
        </p:nvPicPr>
        <p:blipFill>
          <a:blip r:embed="rId5"/>
          <a:srcRect l="5206" t="3464" r="6388" b="9851"/>
          <a:stretch/>
        </p:blipFill>
        <p:spPr>
          <a:xfrm>
            <a:off x="3276720" y="4508640"/>
            <a:ext cx="2447640" cy="1800000"/>
          </a:xfrm>
          <a:prstGeom prst="rect">
            <a:avLst/>
          </a:prstGeom>
          <a:ln w="0">
            <a:noFill/>
          </a:ln>
        </p:spPr>
      </p:pic>
      <p:sp>
        <p:nvSpPr>
          <p:cNvPr id="101" name="Скругленный прямоугольник 10"/>
          <p:cNvSpPr/>
          <p:nvPr/>
        </p:nvSpPr>
        <p:spPr>
          <a:xfrm>
            <a:off x="4896000" y="1052640"/>
            <a:ext cx="4248000" cy="936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9"/>
          <p:cNvSpPr/>
          <p:nvPr/>
        </p:nvSpPr>
        <p:spPr>
          <a:xfrm>
            <a:off x="250920" y="1052640"/>
            <a:ext cx="4249800" cy="936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907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ислород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творенный в в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51640" y="981000"/>
            <a:ext cx="295272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тмосфер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озд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C:\Documents and Settings\Пользователь\Рабочий стол\дыхание\1257457465_life-on-white-07.jpg"/>
          <p:cNvPicPr/>
          <p:nvPr/>
        </p:nvPicPr>
        <p:blipFill>
          <a:blip r:embed="rId6"/>
          <a:stretch/>
        </p:blipFill>
        <p:spPr>
          <a:xfrm>
            <a:off x="0" y="4287960"/>
            <a:ext cx="2570040" cy="25700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2"/>
          <p:cNvSpPr/>
          <p:nvPr/>
        </p:nvSpPr>
        <p:spPr>
          <a:xfrm>
            <a:off x="1258920" y="40464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Распределите по способу дых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59259E-006 L 0.41737 -0.09445 E">
                                      <p:cBhvr>
                                        <p:cTn id="7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8148E-006 L 0.04775 0.27546 E">
                                      <p:cBhvr>
                                        <p:cTn id="73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7.03704E-006 L -0.30712 0.0736 E">
                                      <p:cBhvr>
                                        <p:cTn id="75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07187 -0.23009 E">
                                      <p:cBhvr>
                                        <p:cTn id="77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92 0.04838 L 0.04392 -0.30672 E">
                                      <p:cBhvr>
                                        <p:cTn id="79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Содержимое 3" descr="LATREE.JPG"/>
          <p:cNvPicPr/>
          <p:nvPr/>
        </p:nvPicPr>
        <p:blipFill>
          <a:blip r:embed="rId2"/>
          <a:stretch/>
        </p:blipFill>
        <p:spPr>
          <a:xfrm>
            <a:off x="1832040" y="157320"/>
            <a:ext cx="5403960" cy="6440400"/>
          </a:xfrm>
          <a:prstGeom prst="rect">
            <a:avLst/>
          </a:prstGeom>
          <a:ln w="0">
            <a:noFill/>
          </a:ln>
        </p:spPr>
      </p:pic>
      <p:grpSp>
        <p:nvGrpSpPr>
          <p:cNvPr id="109" name="Группа 23"/>
          <p:cNvGrpSpPr/>
          <p:nvPr/>
        </p:nvGrpSpPr>
        <p:grpSpPr>
          <a:xfrm>
            <a:off x="179280" y="765000"/>
            <a:ext cx="2705040" cy="3024360"/>
            <a:chOff x="179280" y="765000"/>
            <a:chExt cx="2705040" cy="3024360"/>
          </a:xfrm>
        </p:grpSpPr>
        <p:grpSp>
          <p:nvGrpSpPr>
            <p:cNvPr id="110" name="Группа 8"/>
            <p:cNvGrpSpPr/>
            <p:nvPr/>
          </p:nvGrpSpPr>
          <p:grpSpPr>
            <a:xfrm>
              <a:off x="251280" y="765000"/>
              <a:ext cx="2633040" cy="2376360"/>
              <a:chOff x="251280" y="765000"/>
              <a:chExt cx="2633040" cy="2376360"/>
            </a:xfrm>
          </p:grpSpPr>
          <p:sp>
            <p:nvSpPr>
              <p:cNvPr id="111" name="Овальная выноска 7"/>
              <p:cNvSpPr/>
              <p:nvPr/>
            </p:nvSpPr>
            <p:spPr>
              <a:xfrm>
                <a:off x="583920" y="820080"/>
                <a:ext cx="2197800" cy="2191680"/>
              </a:xfrm>
              <a:prstGeom prst="wedgeEllipseCallout">
                <a:avLst>
                  <a:gd name="adj1" fmla="val 89240"/>
                  <a:gd name="adj2" fmla="val -41430"/>
                </a:avLst>
              </a:prstGeom>
              <a:solidFill>
                <a:srgbClr val="3366ff"/>
              </a:solidFill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" name="Picture 3" descr="C:\Documents and Settings\Пользователь\Рабочий стол\дыхание\closed_stoma_low.jpg"/>
              <p:cNvPicPr/>
              <p:nvPr/>
            </p:nvPicPr>
            <p:blipFill>
              <a:blip r:embed="rId3"/>
              <a:stretch/>
            </p:blipFill>
            <p:spPr>
              <a:xfrm>
                <a:off x="251280" y="765000"/>
                <a:ext cx="2633040" cy="237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3" name="Овал 13"/>
            <p:cNvSpPr/>
            <p:nvPr/>
          </p:nvSpPr>
          <p:spPr>
            <a:xfrm>
              <a:off x="179280" y="2925720"/>
              <a:ext cx="431640" cy="43164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Овал 17"/>
            <p:cNvSpPr/>
            <p:nvPr/>
          </p:nvSpPr>
          <p:spPr>
            <a:xfrm>
              <a:off x="684000" y="3357720"/>
              <a:ext cx="431640" cy="4316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5" name="Прямая со стрелкой 20"/>
            <p:cNvCxnSpPr>
              <a:stCxn id="114" idx="7"/>
            </p:cNvCxnSpPr>
            <p:nvPr/>
          </p:nvCxnSpPr>
          <p:spPr>
            <a:xfrm flipV="1">
              <a:off x="1051920" y="1917360"/>
              <a:ext cx="495720" cy="1504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6" name="Прямая со стрелкой 22"/>
            <p:cNvCxnSpPr>
              <a:endCxn id="113" idx="7"/>
            </p:cNvCxnSpPr>
            <p:nvPr/>
          </p:nvCxnSpPr>
          <p:spPr>
            <a:xfrm flipH="1">
              <a:off x="546840" y="1917360"/>
              <a:ext cx="927720" cy="1072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17" name="Группа 31"/>
          <p:cNvGrpSpPr/>
          <p:nvPr/>
        </p:nvGrpSpPr>
        <p:grpSpPr>
          <a:xfrm>
            <a:off x="6372360" y="907920"/>
            <a:ext cx="2592360" cy="3025800"/>
            <a:chOff x="6372360" y="907920"/>
            <a:chExt cx="2592360" cy="3025800"/>
          </a:xfrm>
        </p:grpSpPr>
        <p:grpSp>
          <p:nvGrpSpPr>
            <p:cNvPr id="118" name="Группа 10"/>
            <p:cNvGrpSpPr/>
            <p:nvPr/>
          </p:nvGrpSpPr>
          <p:grpSpPr>
            <a:xfrm>
              <a:off x="6372360" y="1700280"/>
              <a:ext cx="2304360" cy="2233440"/>
              <a:chOff x="6372360" y="1700280"/>
              <a:chExt cx="2304360" cy="2233440"/>
            </a:xfrm>
          </p:grpSpPr>
          <p:sp>
            <p:nvSpPr>
              <p:cNvPr id="119" name="Овальная выноска 9"/>
              <p:cNvSpPr/>
              <p:nvPr/>
            </p:nvSpPr>
            <p:spPr>
              <a:xfrm>
                <a:off x="6431760" y="1824840"/>
                <a:ext cx="1979280" cy="1773360"/>
              </a:xfrm>
              <a:prstGeom prst="wedgeEllipseCallout">
                <a:avLst>
                  <a:gd name="adj1" fmla="val -142291"/>
                  <a:gd name="adj2" fmla="val 69476"/>
                </a:avLst>
              </a:prstGeom>
              <a:solidFill>
                <a:srgbClr val="3366ff"/>
              </a:solidFill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" name="Picture 2" descr="C:\Documents and Settings\Пользователь\Рабочий стол\дыхание\012.gif"/>
              <p:cNvPicPr/>
              <p:nvPr/>
            </p:nvPicPr>
            <p:blipFill>
              <a:blip r:embed="rId4"/>
              <a:stretch/>
            </p:blipFill>
            <p:spPr>
              <a:xfrm>
                <a:off x="6372360" y="1700280"/>
                <a:ext cx="2304360" cy="2233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1" name="Овал 14"/>
            <p:cNvSpPr/>
            <p:nvPr/>
          </p:nvSpPr>
          <p:spPr>
            <a:xfrm>
              <a:off x="7956720" y="907920"/>
              <a:ext cx="431640" cy="43164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Овал 18"/>
            <p:cNvSpPr/>
            <p:nvPr/>
          </p:nvSpPr>
          <p:spPr>
            <a:xfrm>
              <a:off x="8533080" y="1052280"/>
              <a:ext cx="431640" cy="4316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3" name="Прямая со стрелкой 25"/>
            <p:cNvCxnSpPr>
              <a:stCxn id="122" idx="3"/>
            </p:cNvCxnSpPr>
            <p:nvPr/>
          </p:nvCxnSpPr>
          <p:spPr>
            <a:xfrm flipH="1">
              <a:off x="8316720" y="1420200"/>
              <a:ext cx="280080" cy="856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4" name="Прямая со стрелкой 30"/>
            <p:cNvCxnSpPr>
              <a:endCxn id="121" idx="4"/>
            </p:cNvCxnSpPr>
            <p:nvPr/>
          </p:nvCxnSpPr>
          <p:spPr>
            <a:xfrm flipH="1" flipV="1">
              <a:off x="8172360" y="1339200"/>
              <a:ext cx="72000" cy="937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25" name="Группа 37"/>
          <p:cNvGrpSpPr/>
          <p:nvPr/>
        </p:nvGrpSpPr>
        <p:grpSpPr>
          <a:xfrm>
            <a:off x="5796000" y="4653000"/>
            <a:ext cx="2879640" cy="2016000"/>
            <a:chOff x="5796000" y="4653000"/>
            <a:chExt cx="2879640" cy="2016000"/>
          </a:xfrm>
        </p:grpSpPr>
        <p:grpSp>
          <p:nvGrpSpPr>
            <p:cNvPr id="126" name="Группа 12"/>
            <p:cNvGrpSpPr/>
            <p:nvPr/>
          </p:nvGrpSpPr>
          <p:grpSpPr>
            <a:xfrm>
              <a:off x="5796000" y="5229000"/>
              <a:ext cx="2607840" cy="1440000"/>
              <a:chOff x="5796000" y="5229000"/>
              <a:chExt cx="2607840" cy="1440000"/>
            </a:xfrm>
          </p:grpSpPr>
          <p:sp>
            <p:nvSpPr>
              <p:cNvPr id="127" name="Овальная выноска 11"/>
              <p:cNvSpPr/>
              <p:nvPr/>
            </p:nvSpPr>
            <p:spPr>
              <a:xfrm>
                <a:off x="6195960" y="5482440"/>
                <a:ext cx="1645560" cy="1059480"/>
              </a:xfrm>
              <a:prstGeom prst="wedgeEllipseCallout">
                <a:avLst>
                  <a:gd name="adj1" fmla="val -105388"/>
                  <a:gd name="adj2" fmla="val -105708"/>
                </a:avLst>
              </a:prstGeom>
              <a:solidFill>
                <a:srgbClr val="3366ff"/>
              </a:solidFill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8" name="Picture 4" descr="C:\Documents and Settings\Пользователь\Рабочий стол\дыхание\51_2.jpg"/>
              <p:cNvPicPr/>
              <p:nvPr/>
            </p:nvPicPr>
            <p:blipFill>
              <a:blip r:embed="rId5"/>
              <a:stretch/>
            </p:blipFill>
            <p:spPr>
              <a:xfrm>
                <a:off x="5796000" y="5229000"/>
                <a:ext cx="2607840" cy="1440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9" name="Овал 15"/>
            <p:cNvSpPr/>
            <p:nvPr/>
          </p:nvSpPr>
          <p:spPr>
            <a:xfrm>
              <a:off x="7667640" y="4653000"/>
              <a:ext cx="431640" cy="43164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Овал 16"/>
            <p:cNvSpPr/>
            <p:nvPr/>
          </p:nvSpPr>
          <p:spPr>
            <a:xfrm>
              <a:off x="8244000" y="4940280"/>
              <a:ext cx="431640" cy="4330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1" name="Прямая со стрелкой 33"/>
            <p:cNvCxnSpPr>
              <a:stCxn id="130" idx="3"/>
            </p:cNvCxnSpPr>
            <p:nvPr/>
          </p:nvCxnSpPr>
          <p:spPr>
            <a:xfrm flipH="1">
              <a:off x="7595640" y="5310000"/>
              <a:ext cx="711720" cy="567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32" name="Прямая со стрелкой 36"/>
            <p:cNvCxnSpPr>
              <a:endCxn id="129" idx="4"/>
            </p:cNvCxnSpPr>
            <p:nvPr/>
          </p:nvCxnSpPr>
          <p:spPr>
            <a:xfrm flipV="1">
              <a:off x="7596360" y="5084280"/>
              <a:ext cx="288000" cy="721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Скругленный прямоугольник 3"/>
          <p:cNvGrpSpPr/>
          <p:nvPr/>
        </p:nvGrpSpPr>
        <p:grpSpPr>
          <a:xfrm>
            <a:off x="1023840" y="2475000"/>
            <a:ext cx="7096320" cy="3565440"/>
            <a:chOff x="1023840" y="2475000"/>
            <a:chExt cx="7096320" cy="3565440"/>
          </a:xfrm>
        </p:grpSpPr>
        <p:pic>
          <p:nvPicPr>
            <p:cNvPr id="134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023840" y="2475000"/>
              <a:ext cx="7096320" cy="35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216080" y="2665440"/>
              <a:ext cx="6711840" cy="31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Группа 18"/>
          <p:cNvGrpSpPr/>
          <p:nvPr/>
        </p:nvGrpSpPr>
        <p:grpSpPr>
          <a:xfrm>
            <a:off x="1835280" y="3141720"/>
            <a:ext cx="2016000" cy="2016000"/>
            <a:chOff x="1835280" y="3141720"/>
            <a:chExt cx="2016000" cy="2016000"/>
          </a:xfrm>
        </p:grpSpPr>
        <p:sp>
          <p:nvSpPr>
            <p:cNvPr id="137" name="Овал 12"/>
            <p:cNvSpPr/>
            <p:nvPr/>
          </p:nvSpPr>
          <p:spPr>
            <a:xfrm>
              <a:off x="1835280" y="3141720"/>
              <a:ext cx="2016000" cy="201600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17"/>
            <p:cNvSpPr/>
            <p:nvPr/>
          </p:nvSpPr>
          <p:spPr>
            <a:xfrm>
              <a:off x="2223000" y="3544920"/>
              <a:ext cx="131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АБ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9"/>
          <p:cNvSpPr/>
          <p:nvPr/>
        </p:nvSpPr>
        <p:spPr>
          <a:xfrm>
            <a:off x="2700360" y="3429000"/>
            <a:ext cx="934920" cy="9367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10"/>
          <p:cNvSpPr/>
          <p:nvPr/>
        </p:nvSpPr>
        <p:spPr>
          <a:xfrm>
            <a:off x="1979640" y="836640"/>
            <a:ext cx="936720" cy="936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11"/>
          <p:cNvSpPr/>
          <p:nvPr/>
        </p:nvSpPr>
        <p:spPr>
          <a:xfrm>
            <a:off x="2124000" y="3860640"/>
            <a:ext cx="1224000" cy="1224000"/>
          </a:xfrm>
          <a:prstGeom prst="ellipse">
            <a:avLst/>
          </a:prstGeom>
          <a:solidFill>
            <a:srgbClr val="ffcc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Группа 14"/>
          <p:cNvGrpSpPr/>
          <p:nvPr/>
        </p:nvGrpSpPr>
        <p:grpSpPr>
          <a:xfrm>
            <a:off x="1403280" y="1125360"/>
            <a:ext cx="865080" cy="935280"/>
            <a:chOff x="1403280" y="1125360"/>
            <a:chExt cx="865080" cy="935280"/>
          </a:xfrm>
        </p:grpSpPr>
        <p:sp>
          <p:nvSpPr>
            <p:cNvPr id="144" name="Овал 4"/>
            <p:cNvSpPr/>
            <p:nvPr/>
          </p:nvSpPr>
          <p:spPr>
            <a:xfrm>
              <a:off x="1403280" y="1125360"/>
              <a:ext cx="865080" cy="93528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13"/>
            <p:cNvSpPr/>
            <p:nvPr/>
          </p:nvSpPr>
          <p:spPr>
            <a:xfrm>
              <a:off x="1619640" y="1125360"/>
              <a:ext cx="43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Группа 16"/>
          <p:cNvGrpSpPr/>
          <p:nvPr/>
        </p:nvGrpSpPr>
        <p:grpSpPr>
          <a:xfrm>
            <a:off x="2771640" y="1125360"/>
            <a:ext cx="863640" cy="935280"/>
            <a:chOff x="2771640" y="1125360"/>
            <a:chExt cx="863640" cy="935280"/>
          </a:xfrm>
        </p:grpSpPr>
        <p:sp>
          <p:nvSpPr>
            <p:cNvPr id="147" name="Овал 6"/>
            <p:cNvSpPr/>
            <p:nvPr/>
          </p:nvSpPr>
          <p:spPr>
            <a:xfrm>
              <a:off x="2771640" y="1125360"/>
              <a:ext cx="863640" cy="93528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15"/>
            <p:cNvSpPr/>
            <p:nvPr/>
          </p:nvSpPr>
          <p:spPr>
            <a:xfrm>
              <a:off x="2987640" y="1197000"/>
              <a:ext cx="43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Группа 20"/>
          <p:cNvGrpSpPr/>
          <p:nvPr/>
        </p:nvGrpSpPr>
        <p:grpSpPr>
          <a:xfrm>
            <a:off x="2484360" y="3213000"/>
            <a:ext cx="863640" cy="936720"/>
            <a:chOff x="2484360" y="3213000"/>
            <a:chExt cx="863640" cy="936720"/>
          </a:xfrm>
        </p:grpSpPr>
        <p:sp>
          <p:nvSpPr>
            <p:cNvPr id="150" name="Овал 7"/>
            <p:cNvSpPr/>
            <p:nvPr/>
          </p:nvSpPr>
          <p:spPr>
            <a:xfrm>
              <a:off x="2484360" y="3213000"/>
              <a:ext cx="863640" cy="93672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19"/>
            <p:cNvSpPr/>
            <p:nvPr/>
          </p:nvSpPr>
          <p:spPr>
            <a:xfrm>
              <a:off x="2700000" y="3285000"/>
              <a:ext cx="64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Группа 22"/>
          <p:cNvGrpSpPr/>
          <p:nvPr/>
        </p:nvGrpSpPr>
        <p:grpSpPr>
          <a:xfrm>
            <a:off x="2771640" y="3789360"/>
            <a:ext cx="863640" cy="934920"/>
            <a:chOff x="2771640" y="3789360"/>
            <a:chExt cx="863640" cy="934920"/>
          </a:xfrm>
        </p:grpSpPr>
        <p:sp>
          <p:nvSpPr>
            <p:cNvPr id="153" name="Овал 8"/>
            <p:cNvSpPr/>
            <p:nvPr/>
          </p:nvSpPr>
          <p:spPr>
            <a:xfrm>
              <a:off x="2771640" y="3789360"/>
              <a:ext cx="863640" cy="93492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Box 21"/>
            <p:cNvSpPr/>
            <p:nvPr/>
          </p:nvSpPr>
          <p:spPr>
            <a:xfrm>
              <a:off x="3059280" y="3861000"/>
              <a:ext cx="43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0.07882 0.39375 E">
                                      <p:cBhvr>
                                        <p:cTn id="99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-7.40741E-006 L -0.0474 0.38842 E">
                                      <p:cBhvr>
                                        <p:cTn id="101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7 L 0.0276 0.42523 E">
                                      <p:cBhvr>
                                        <p:cTn id="119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2 -0.02616 L 0.20486 0.11574 E">
                                      <p:cBhvr>
                                        <p:cTn id="141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2.59259E-006 L 0.35435 -0.03148 E">
                                      <p:cBhvr>
                                        <p:cTn id="143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59259E-006 L 0.44097 0.01042 E">
                                      <p:cBhvr>
                                        <p:cTn id="145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184 -0.09445 E">
                                      <p:cBhvr>
                                        <p:cTn id="147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184 -0.09445 L 0.13785 -0.33079 E">
                                      <p:cBhvr>
                                        <p:cTn id="151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434 -0.03149 L 0.35434 -0.29931 E">
                                      <p:cBhvr>
                                        <p:cTn id="153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097 0.01042 L 0.44097 -0.38865 E">
                                      <p:cBhvr>
                                        <p:cTn id="155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ИСЛОРОД И ПИТАТЕЛЬНЫЕ ВЕЩЕСТВА ПОСТОЯННО РАСХОДУЮТСЯ КАЖДОЙ КЛЕТКОЙ ДЛЯ ПОЛУЧЕНИЯ НЕОБХОДИМОЙ ДЛЯ ЖИЗНИ ЭНЕРГ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826920" y="1484280"/>
            <a:ext cx="7777440" cy="3024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30, задание в конце парагра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Шаблон: презентация «Органы дыхания» Аксеновой Нины Вадимовны, учителя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ованная литература: Т.С. Сухова, В.И.Строганов, Вентана -Граф,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артин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akura093.ya.ru/replies.xml?item_no=14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tp://kandaliza2008.ucoz.ru/publ/derevja_kliparty/10-1-0-1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lori.ru/29982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forum30.ru/viewtopic.php?f=28&amp;t=535&amp;start=3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lori.ru/16290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lori.ru/17984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mylove.ru/groups/foto-emocii/diary/296601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dv-yoga.ru/story/o-ioge-fitnese-i-samosovershenstvovan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ru.123rf.com/photo_3281560_vector-green-tree--isolated-on-white-background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biologiyavklasse.ru/stebel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znanie-bio.ru/index.php?categoryID=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189000"/>
            <a:ext cx="6985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Опыт №1: Задержите дых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786280" y="2000160"/>
            <a:ext cx="27864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Исключительно важно для человека дыхание. Известно, что без пищи он может прожить несколько недель, без воды - несколько дней, а без воздуха – всего несколько ми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Картинка 14 из 42802"/>
          <p:cNvPicPr/>
          <p:nvPr/>
        </p:nvPicPr>
        <p:blipFill>
          <a:blip r:embed="rId2"/>
          <a:stretch/>
        </p:blipFill>
        <p:spPr>
          <a:xfrm>
            <a:off x="285840" y="1285920"/>
            <a:ext cx="5303880" cy="5072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Опыт №2: Обнаружение углекислого газа в выдыхаемом воздух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0" descr="310120121140.jpg"/>
          <p:cNvPicPr/>
          <p:nvPr/>
        </p:nvPicPr>
        <p:blipFill>
          <a:blip r:embed="rId2">
            <a:lum contrast="40000"/>
          </a:blip>
          <a:srcRect l="24214" t="3147" r="17731" b="6408"/>
          <a:stretch/>
        </p:blipFill>
        <p:spPr>
          <a:xfrm>
            <a:off x="2050920" y="1484280"/>
            <a:ext cx="5113440" cy="4843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в выдыхаемом воздухе углекислого газа стало больше, чем было во вдыхаем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2916360" y="3068640"/>
            <a:ext cx="223200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900"/>
                </a:solidFill>
                <a:latin typeface="Arial"/>
              </a:rPr>
              <a:t>Газообмен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– это процесс поглощения из воздуха кислорода и выделения углекислого газа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Группа 8"/>
          <p:cNvGrpSpPr/>
          <p:nvPr/>
        </p:nvGrpSpPr>
        <p:grpSpPr>
          <a:xfrm>
            <a:off x="971640" y="2205000"/>
            <a:ext cx="6562800" cy="4451400"/>
            <a:chOff x="971640" y="2205000"/>
            <a:chExt cx="6562800" cy="4451400"/>
          </a:xfrm>
        </p:grpSpPr>
        <p:grpSp>
          <p:nvGrpSpPr>
            <p:cNvPr id="57" name="Полилиния 3"/>
            <p:cNvGrpSpPr/>
            <p:nvPr/>
          </p:nvGrpSpPr>
          <p:grpSpPr>
            <a:xfrm>
              <a:off x="971640" y="2205000"/>
              <a:ext cx="6562800" cy="4451400"/>
              <a:chOff x="971640" y="2205000"/>
              <a:chExt cx="6562800" cy="4451400"/>
            </a:xfrm>
          </p:grpSpPr>
          <p:pic>
            <p:nvPicPr>
              <p:cNvPr id="58" name="Полилиния 3" descr=""/>
              <p:cNvPicPr/>
              <p:nvPr/>
            </p:nvPicPr>
            <p:blipFill>
              <a:blip r:embed="rId2"/>
              <a:stretch/>
            </p:blipFill>
            <p:spPr>
              <a:xfrm>
                <a:off x="981360" y="2205000"/>
                <a:ext cx="6553080" cy="445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71640" y="2227320"/>
                <a:ext cx="6550560" cy="441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Овал 4"/>
            <p:cNvGrpSpPr/>
            <p:nvPr/>
          </p:nvGrpSpPr>
          <p:grpSpPr>
            <a:xfrm>
              <a:off x="2629080" y="3620160"/>
              <a:ext cx="1194120" cy="1118880"/>
              <a:chOff x="2629080" y="3620160"/>
              <a:chExt cx="1194120" cy="1118880"/>
            </a:xfrm>
          </p:grpSpPr>
          <p:pic>
            <p:nvPicPr>
              <p:cNvPr id="61" name="Овал 4" descr=""/>
              <p:cNvPicPr/>
              <p:nvPr/>
            </p:nvPicPr>
            <p:blipFill>
              <a:blip r:embed="rId3"/>
              <a:stretch/>
            </p:blipFill>
            <p:spPr>
              <a:xfrm>
                <a:off x="2629080" y="3620160"/>
                <a:ext cx="1194120" cy="111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2847240" y="3802320"/>
                <a:ext cx="763560" cy="70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Овал 5"/>
            <p:cNvGrpSpPr/>
            <p:nvPr/>
          </p:nvGrpSpPr>
          <p:grpSpPr>
            <a:xfrm>
              <a:off x="3994200" y="4261320"/>
              <a:ext cx="1054080" cy="762120"/>
              <a:chOff x="3994200" y="4261320"/>
              <a:chExt cx="1054080" cy="762120"/>
            </a:xfrm>
          </p:grpSpPr>
          <p:pic>
            <p:nvPicPr>
              <p:cNvPr id="64" name="Овал 5" descr=""/>
              <p:cNvPicPr/>
              <p:nvPr/>
            </p:nvPicPr>
            <p:blipFill>
              <a:blip r:embed="rId4"/>
              <a:stretch/>
            </p:blipFill>
            <p:spPr>
              <a:xfrm>
                <a:off x="3994200" y="4261320"/>
                <a:ext cx="1054080" cy="7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"/>
              <p:cNvSpPr/>
              <p:nvPr/>
            </p:nvSpPr>
            <p:spPr>
              <a:xfrm>
                <a:off x="4194000" y="4392720"/>
                <a:ext cx="661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" name="Группа 16"/>
          <p:cNvGrpSpPr/>
          <p:nvPr/>
        </p:nvGrpSpPr>
        <p:grpSpPr>
          <a:xfrm>
            <a:off x="3995280" y="1197000"/>
            <a:ext cx="1081440" cy="2376360"/>
            <a:chOff x="3995280" y="1197000"/>
            <a:chExt cx="1081440" cy="2376360"/>
          </a:xfrm>
        </p:grpSpPr>
        <p:sp>
          <p:nvSpPr>
            <p:cNvPr id="67" name="Овал 6"/>
            <p:cNvSpPr/>
            <p:nvPr/>
          </p:nvSpPr>
          <p:spPr>
            <a:xfrm>
              <a:off x="4284000" y="1197000"/>
              <a:ext cx="792720" cy="7920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" name="Прямая со стрелкой 10"/>
            <p:cNvCxnSpPr>
              <a:stCxn id="67" idx="4"/>
            </p:cNvCxnSpPr>
            <p:nvPr/>
          </p:nvCxnSpPr>
          <p:spPr>
            <a:xfrm flipH="1">
              <a:off x="3995280" y="1988640"/>
              <a:ext cx="685440" cy="1585080"/>
            </a:xfrm>
            <a:prstGeom prst="straightConnector1">
              <a:avLst/>
            </a:prstGeom>
            <a:ln w="38160">
              <a:solidFill>
                <a:srgbClr val="2d2d8a"/>
              </a:solidFill>
              <a:miter/>
              <a:tailEnd len="med" type="arrow" w="med"/>
            </a:ln>
          </p:spPr>
        </p:cxnSp>
      </p:grpSp>
      <p:grpSp>
        <p:nvGrpSpPr>
          <p:cNvPr id="69" name="Группа 17"/>
          <p:cNvGrpSpPr/>
          <p:nvPr/>
        </p:nvGrpSpPr>
        <p:grpSpPr>
          <a:xfrm>
            <a:off x="4500720" y="1268280"/>
            <a:ext cx="1871640" cy="2592000"/>
            <a:chOff x="4500720" y="1268280"/>
            <a:chExt cx="1871640" cy="2592000"/>
          </a:xfrm>
        </p:grpSpPr>
        <p:sp>
          <p:nvSpPr>
            <p:cNvPr id="70" name="Овал 7"/>
            <p:cNvSpPr/>
            <p:nvPr/>
          </p:nvSpPr>
          <p:spPr>
            <a:xfrm>
              <a:off x="5580360" y="1268280"/>
              <a:ext cx="792000" cy="79200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" name="Прямая со стрелкой 12"/>
            <p:cNvCxnSpPr>
              <a:endCxn id="70" idx="3"/>
            </p:cNvCxnSpPr>
            <p:nvPr/>
          </p:nvCxnSpPr>
          <p:spPr>
            <a:xfrm flipV="1">
              <a:off x="4500720" y="1943640"/>
              <a:ext cx="1196640" cy="1917000"/>
            </a:xfrm>
            <a:prstGeom prst="straightConnector1">
              <a:avLst/>
            </a:prstGeom>
            <a:ln w="38160">
              <a:solidFill>
                <a:srgbClr val="333399"/>
              </a:solidFill>
              <a:miter/>
              <a:tailEnd len="med" type="arrow" w="med"/>
            </a:ln>
          </p:spPr>
        </p:cxnSp>
      </p:grpSp>
      <p:sp>
        <p:nvSpPr>
          <p:cNvPr id="72" name="TextBox 15"/>
          <p:cNvSpPr/>
          <p:nvPr/>
        </p:nvSpPr>
        <p:spPr>
          <a:xfrm>
            <a:off x="2365920" y="333360"/>
            <a:ext cx="458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Как дышит амеб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3"/>
          <p:cNvSpPr/>
          <p:nvPr/>
        </p:nvSpPr>
        <p:spPr>
          <a:xfrm>
            <a:off x="755640" y="1341360"/>
            <a:ext cx="7848720" cy="3024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 ЖИВЫХ ОРГАНИЗМОВ, СОСТОЯЩИХ ИЗ ОДНОЙ КЛЕТКИ, ГАЗООБМЕН С ОКРУЖАЮЩЕЙ СРЕДОЙ ПРОИСХОДИТ ЧЕРЕЗ ПОВЕРХНОСТЬ КЛЕТ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Содержимое 6" descr="400_400.jpg"/>
          <p:cNvPicPr/>
          <p:nvPr/>
        </p:nvPicPr>
        <p:blipFill>
          <a:blip r:embed="rId2"/>
          <a:stretch/>
        </p:blipFill>
        <p:spPr>
          <a:xfrm>
            <a:off x="3635280" y="2060640"/>
            <a:ext cx="1800360" cy="3809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Зарисуйте свои примеры газообме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Содержимое 5" descr="0_28d89_d629fb11_XL.jpg"/>
          <p:cNvPicPr/>
          <p:nvPr/>
        </p:nvPicPr>
        <p:blipFill>
          <a:blip r:embed="rId3"/>
          <a:stretch/>
        </p:blipFill>
        <p:spPr>
          <a:xfrm>
            <a:off x="395280" y="1484280"/>
            <a:ext cx="327024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Documents and Settings\Пользователь\Рабочий стол\дыхание\b97b37c4c9fb.png"/>
          <p:cNvPicPr/>
          <p:nvPr/>
        </p:nvPicPr>
        <p:blipFill>
          <a:blip r:embed="rId4"/>
          <a:stretch/>
        </p:blipFill>
        <p:spPr>
          <a:xfrm>
            <a:off x="6516720" y="2205000"/>
            <a:ext cx="2303280" cy="3300480"/>
          </a:xfrm>
          <a:prstGeom prst="rect">
            <a:avLst/>
          </a:prstGeom>
          <a:ln w="0">
            <a:noFill/>
          </a:ln>
        </p:spPr>
      </p:pic>
      <p:sp>
        <p:nvSpPr>
          <p:cNvPr id="79" name="Овал 8"/>
          <p:cNvSpPr/>
          <p:nvPr/>
        </p:nvSpPr>
        <p:spPr>
          <a:xfrm>
            <a:off x="324000" y="1413000"/>
            <a:ext cx="502920" cy="503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9"/>
          <p:cNvSpPr/>
          <p:nvPr/>
        </p:nvSpPr>
        <p:spPr>
          <a:xfrm>
            <a:off x="1187280" y="1125360"/>
            <a:ext cx="50508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10"/>
          <p:cNvSpPr/>
          <p:nvPr/>
        </p:nvSpPr>
        <p:spPr>
          <a:xfrm>
            <a:off x="3492360" y="1700280"/>
            <a:ext cx="503280" cy="50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11"/>
          <p:cNvSpPr/>
          <p:nvPr/>
        </p:nvSpPr>
        <p:spPr>
          <a:xfrm>
            <a:off x="3708360" y="2349360"/>
            <a:ext cx="50328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12"/>
          <p:cNvSpPr/>
          <p:nvPr/>
        </p:nvSpPr>
        <p:spPr>
          <a:xfrm>
            <a:off x="5651640" y="1628640"/>
            <a:ext cx="504720" cy="505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13"/>
          <p:cNvSpPr/>
          <p:nvPr/>
        </p:nvSpPr>
        <p:spPr>
          <a:xfrm>
            <a:off x="6227640" y="1413000"/>
            <a:ext cx="50508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15"/>
          <p:cNvCxnSpPr>
            <a:stCxn id="79" idx="5"/>
          </p:cNvCxnSpPr>
          <p:nvPr/>
        </p:nvCxnSpPr>
        <p:spPr>
          <a:xfrm>
            <a:off x="754200" y="1842840"/>
            <a:ext cx="722520" cy="7945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86" name="Прямая со стрелкой 17"/>
          <p:cNvCxnSpPr>
            <a:endCxn id="80" idx="5"/>
          </p:cNvCxnSpPr>
          <p:nvPr/>
        </p:nvCxnSpPr>
        <p:spPr>
          <a:xfrm flipH="1" flipV="1">
            <a:off x="1617480" y="1555200"/>
            <a:ext cx="290880" cy="8658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87" name="Прямая со стрелкой 19"/>
          <p:cNvCxnSpPr>
            <a:stCxn id="81" idx="6"/>
          </p:cNvCxnSpPr>
          <p:nvPr/>
        </p:nvCxnSpPr>
        <p:spPr>
          <a:xfrm>
            <a:off x="3995640" y="1952280"/>
            <a:ext cx="721440" cy="54036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88" name="Прямая со стрелкой 21"/>
          <p:cNvCxnSpPr>
            <a:endCxn id="82" idx="6"/>
          </p:cNvCxnSpPr>
          <p:nvPr/>
        </p:nvCxnSpPr>
        <p:spPr>
          <a:xfrm flipH="1" flipV="1">
            <a:off x="4211280" y="2599920"/>
            <a:ext cx="505440" cy="3744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89" name="Прямая со стрелкой 25"/>
          <p:cNvCxnSpPr>
            <a:stCxn id="83" idx="4"/>
          </p:cNvCxnSpPr>
          <p:nvPr/>
        </p:nvCxnSpPr>
        <p:spPr>
          <a:xfrm>
            <a:off x="5904000" y="2133360"/>
            <a:ext cx="684720" cy="71964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0" name="Прямая со стрелкой 27"/>
          <p:cNvCxnSpPr>
            <a:endCxn id="84" idx="4"/>
          </p:cNvCxnSpPr>
          <p:nvPr/>
        </p:nvCxnSpPr>
        <p:spPr>
          <a:xfrm flipH="1" flipV="1">
            <a:off x="6479280" y="1915560"/>
            <a:ext cx="180360" cy="6498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Картинка 5 из 42802"/>
          <p:cNvPicPr/>
          <p:nvPr/>
        </p:nvPicPr>
        <p:blipFill>
          <a:blip r:embed="rId2"/>
          <a:stretch/>
        </p:blipFill>
        <p:spPr>
          <a:xfrm>
            <a:off x="2268360" y="981000"/>
            <a:ext cx="5288040" cy="56167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ПРОЦЕСС ГАЗООБМЕ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7"/>
          <p:cNvSpPr/>
          <p:nvPr/>
        </p:nvSpPr>
        <p:spPr>
          <a:xfrm>
            <a:off x="971640" y="981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до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8"/>
          <p:cNvSpPr/>
          <p:nvPr/>
        </p:nvSpPr>
        <p:spPr>
          <a:xfrm>
            <a:off x="971640" y="4581360"/>
            <a:ext cx="16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выдо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12"/>
          <p:cNvSpPr/>
          <p:nvPr/>
        </p:nvSpPr>
        <p:spPr>
          <a:xfrm>
            <a:off x="2556000" y="1052640"/>
            <a:ext cx="360360" cy="360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13"/>
          <p:cNvSpPr/>
          <p:nvPr/>
        </p:nvSpPr>
        <p:spPr>
          <a:xfrm>
            <a:off x="6804000" y="5661000"/>
            <a:ext cx="360360" cy="3603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372 0.04051 0.02761 0.08125 0.03941 0.10486 C 0.05122 0.12847 0.0599 0.12963 0.07032 0.1412 C 0.08073 0.15278 0.08716 0.16389 0.10243 0.17453 C 0.11771 0.18518 0.14792 0.20185 0.16198 0.20486 C 0.17605 0.20787 0.17882 0.2 0.18698 0.19213 C 0.19514 0.18426 0.19931 0.16319 0.21077 0.15717 C 0.22223 0.15116 0.24358 0.14629 0.25608 0.15555 C 0.26858 0.16481 0.28021 0.18773 0.28577 0.21273 C 0.29132 0.23773 0.28907 0.26041 0.28941 0.30625 C 0.28976 0.35208 0.2783 0.44166 0.2882 0.48727 C 0.29809 0.53287 0.3375 0.56273 0.34896 0.5794 C 0.36042 0.59606 0.35886 0.59166 0.3573 0.58727 E">
                                      <p:cBhvr>
                                        <p:cTn id="37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729 0.58727 C 0.34774 0.51158 0.33836 0.43611 0.3526 0.41759 C 0.36684 0.39908 0.42465 0.43287 0.44305 0.47616 C 0.46145 0.51945 0.46232 0.59861 0.46336 0.67778 E">
                                      <p:cBhvr>
                                        <p:cTn id="41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6575 0.00382 -0.13125 -0.00937 -0.17454 C -0.02257 -0.21783 -0.0618 -0.24792 -0.07969 -0.26019 C -0.09757 -0.27246 -0.11198 -0.275 -0.11667 -0.24769 C -0.12135 -0.22038 -0.10972 -0.122 -0.10833 -0.09676 E">
                                      <p:cBhvr>
                                        <p:cTn id="5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73 -0.08473 C -0.12622 -0.10024 -0.14497 -0.11574 -0.15851 -0.1338 C -0.17205 -0.15186 -0.18473 -0.14306 -0.1882 -0.1926 C -0.19167 -0.24213 -0.16754 -0.38681 -0.17987 -0.43079 C -0.19219 -0.47477 -0.23473 -0.45764 -0.26216 -0.45602 C -0.28959 -0.4544 -0.31927 -0.43774 -0.34427 -0.42107 C -0.36927 -0.4044 -0.39462 -0.38635 -0.41216 -0.35602 C -0.42969 -0.3257 -0.44289 -0.25764 -0.44896 -0.23866 E">
                                      <p:cBhvr>
                                        <p:cTn id="56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07:38:03Z</dcterms:created>
  <dc:creator>Windows XP</dc:creator>
  <dc:description/>
  <dc:language>en-US</dc:language>
  <cp:lastModifiedBy>КарМаН</cp:lastModifiedBy>
  <dcterms:modified xsi:type="dcterms:W3CDTF">2012-07-20T13:39:58Z</dcterms:modified>
  <cp:revision>26</cp:revision>
  <dc:subject/>
  <dc:title>Органы дыхания</dc:title>
</cp:coreProperties>
</file>